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3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4.jpeg" ContentType="image/jpeg"/>
  <Override PartName="/ppt/media/image10.wmf" ContentType="image/x-wmf"/>
  <Override PartName="/ppt/media/image11.png" ContentType="image/png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9C78-7E94-475D-980D-15E6B8A24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560-5AA0-47F2-BE58-3D10DAD8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05D4-5ED1-42D0-8A2E-F96C5DB5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1B52-F010-4795-B665-DE9E30615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D648-2033-4A4E-964C-CB7729D78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43ED3-831E-48C0-BB2F-B2B499F02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336D-143A-41FC-A53C-6EAFC141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4AA19-6E5A-4568-81A3-5B84D686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14A75-AF1A-424A-A89D-D5489A3B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1B11-AA7E-4B15-A600-DE2CCBD5D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612C2-304A-4E51-B958-75119681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28A4-617C-4E27-90E2-81BC9F5D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3B98-7CB3-4093-90EF-FF9C803B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3287-20F3-465F-A115-985B63CB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2D82-4E35-4A7D-AD76-A1FF43AA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9F2B-B018-4F7E-B8C6-3FDDFC540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2125-D751-4353-94AD-4BCB95C6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0E1A9-81C7-4462-9993-451587BA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B3184-A445-402C-8441-FAB1C3A4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D463D-2ED5-4DEB-978B-6F2BE4CBE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1C14F-FC8E-409F-97C8-E602BB12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ABCB3-DCF3-4883-AE38-4E93472A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F11-5F51-439E-9BA7-4586BB260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31035-1370-4D2A-A5F1-BCCB65EB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49471-5CE3-429A-923C-F3DE2032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D328B-2D69-4186-AF96-D62F6F6B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9F1D9-201A-4DF3-BD40-26FECD5F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097CD-278B-4FA6-A5A6-5C6797A5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CA528-5687-42AD-8150-7438872D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7818B-FE8A-4306-9DCC-9EC478021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4AE6-88F0-4391-800C-2146D6E85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2DB-92EF-409C-AEB7-34455AA8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6F66-1C1A-4A25-A161-CB719A64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732A-68AA-47BC-B3DA-B283A36D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0AAC-9213-4A85-B374-6606FEC6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2A5-C675-4EFD-B3DE-DE3561A0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C4FB-6CBE-44FE-9593-6445B2629394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T:\Contacto\Health\DGS\Concurso Público\Propostas Criativas\U\Template ppt\bases\7542_DGS_powerpoint_cap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B958-2CDA-4AD5-8C97-17142758D381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T:\Contacto\Health\DGS\Concurso Público\Propostas Criativas\U\Template ppt\bases\7542_DGS_powerpoint_02-07.jp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8D2B-A706-454A-9004-89A42BC1A9B5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8" descr="T:\Contacto\Health\DGS\Concurso Público\Propostas Criativas\U\Template ppt\bases\7542_DGS_powerpoint_02-06.jp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CaixaDeTexto 3"/>
          <p:cNvSpPr/>
          <p:nvPr/>
        </p:nvSpPr>
        <p:spPr>
          <a:xfrm>
            <a:off x="1643040" y="1846440"/>
            <a:ext cx="682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7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3c3c3c"/>
                </a:solidFill>
                <a:latin typeface="Open Sans"/>
              </a:rPr>
              <a:t>PRECAUÇÕES BÁSICAS de CONTROLO DE INFEÇÃ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84807"/>
                </a:solidFill>
                <a:latin typeface="Narkisim"/>
                <a:ea typeface="Narkisim"/>
              </a:rPr>
              <a:t>Avaliação do Risco Individual do Doente para a Infe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aixaDeTexto 4"/>
          <p:cNvSpPr/>
          <p:nvPr/>
        </p:nvSpPr>
        <p:spPr>
          <a:xfrm>
            <a:off x="4157640" y="4589640"/>
            <a:ext cx="4630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3c3c3c"/>
                </a:solidFill>
                <a:latin typeface="Open Sans"/>
              </a:rPr>
              <a:t>PPCIRA: CURSO PBCI/PBVT - </a:t>
            </a:r>
            <a:r>
              <a:rPr b="1" lang="pt-PT" sz="1400" spc="-1" strike="noStrike">
                <a:solidFill>
                  <a:srgbClr val="3c3c3c"/>
                </a:solidFill>
                <a:latin typeface="Open Sans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A avaliação do risco de infeção: 2 vertent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55680" y="2169720"/>
            <a:ext cx="743112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Como hospedeiro suscetível: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Fatores de risco intrínseco e extrínseco que o tornam mais vulnerável/suscetível à infeção: doença crónica; múltiplos procedimentos e dispositivos invasivos; internamentos recentes e sucessivos; idade avançada &gt; 65 anos ..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Como fonte ou reservatório de infeção: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Situação clínica de colonização ou infeção (ativa ou presumida), representando risco de transmissão cruzada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Por vezes, as 2 situações!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2171520"/>
            <a:ext cx="8763120" cy="4686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 avaliação inicial do risco para a infeção, 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é o 1.º passo para o planeamento, implementação e avaliação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das medidas de PCI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deve ser feita </a:t>
            </a:r>
            <a:r>
              <a:rPr b="1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antes da interação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com o doente ou com o seu ambiente envolvente.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ermite aos PS dirigir as intervenções necessárias para prevenir a  transmissão cruzada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Ao longo do internamento: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reconhecer os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procedimentos com &gt; risco para os doentes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a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mudança do padrão clínico/ &gt; da suscetibilidade à infeção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e os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sinais/sintomas de infeção 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que possam ser determinantes no planeamento dos cuidados seguros.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Avaliação do risco individua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A avaliação do risco de IH: 2 vertent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55320" y="2170080"/>
            <a:ext cx="7659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Para estratificar os níveis de risco do doente para a infeção: </a:t>
            </a: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Modelo de risco diferencial: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lvl="2" marL="1314360" indent="-514080" algn="just">
              <a:spcBef>
                <a:spcPts val="499"/>
              </a:spcBef>
              <a:buClr>
                <a:srgbClr val="000000"/>
              </a:buClr>
              <a:buFont typeface="Open Sans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Situação clinica do doente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2" marL="1314360" indent="-514080" algn="just">
              <a:spcBef>
                <a:spcPts val="499"/>
              </a:spcBef>
              <a:buClr>
                <a:srgbClr val="000000"/>
              </a:buClr>
              <a:buFont typeface="Open Sans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Tipo de procedimentos a efetuar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De forma qualitativa podemos apurar um de </a:t>
            </a: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três níveis de risco: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lvl="2" marL="1314360" indent="-514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Mínimo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2" marL="1314360" indent="-514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Médio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2" marL="1314360" indent="-514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levado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Risco diferencial de infeçã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11"/>
          <p:cNvGraphicFramePr/>
          <p:nvPr/>
        </p:nvGraphicFramePr>
        <p:xfrm>
          <a:off x="803160" y="860400"/>
          <a:ext cx="9323640" cy="574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160" y="860400"/>
                    <a:ext cx="9323640" cy="57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PRIORIZAÇÃO DAS MEDIDA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704880" y="819000"/>
            <a:ext cx="7620120" cy="2913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685800" y="3467160"/>
            <a:ext cx="76582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PLANO DE INTERVENÇÃO NOS DOENTES COM INFECÇÃ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2171520"/>
            <a:ext cx="8305920" cy="4686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 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A todo o doente em que é identificada uma infeção/colonização, confirmada ou presumida, deve ser elaborado um </a:t>
            </a: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plano de cuidados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, com as intervenções apropriadas, principalmente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nas situações em que é possível a transmissão secundária do microrganismo a outros doentes, profissionais, visitantes e sua disseminação no ambiente. 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" name="Conexão recta 4"/>
          <p:cNvSpPr/>
          <p:nvPr/>
        </p:nvSpPr>
        <p:spPr>
          <a:xfrm>
            <a:off x="1295280" y="3848040"/>
            <a:ext cx="6267600" cy="3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onexão recta 6"/>
          <p:cNvSpPr/>
          <p:nvPr/>
        </p:nvSpPr>
        <p:spPr>
          <a:xfrm>
            <a:off x="1486080" y="3333600"/>
            <a:ext cx="7257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QUESTÕES PARA OPLANO DE INTERVENÇÃO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28200" y="2064960"/>
            <a:ext cx="8286840" cy="4708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loca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ão do doente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tipo de isolamento, se necess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á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io):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 isolamento de contacto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suficiente?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não, o doente necessita de isolamento de conten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ão ou de prote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ão, ou dos  tipos de isolamento?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 doente necessita de quarto individual com casa de banho?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á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condi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ões para implementar esta medida?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necess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á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io quarto com ventil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ão controlada (pressão negativa - se patologia ou microrganismo for pass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el de transmissão por via 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a ou got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ulas)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á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condi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ões para implementar esta medida?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h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á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ais do que um doente com a mesma patologia infeciosa ou o mesmo microrganismo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rt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e não h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á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quarto individual: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solar os doentes em Coorte 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Outras questões, d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ú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idas ou necessidade de orient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ões espec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ficas (ex: suspeita de surto de infe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ão): </a:t>
            </a:r>
            <a:r>
              <a:rPr b="1" lang="pt-P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ntactar o GCL-PPCIRA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9" name="Rectângulo 3"/>
          <p:cNvSpPr/>
          <p:nvPr/>
        </p:nvSpPr>
        <p:spPr>
          <a:xfrm>
            <a:off x="838080" y="876240"/>
            <a:ext cx="830592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plicação das PBCI a todos os doen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55440" y="0"/>
            <a:ext cx="9033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5676840" y="657360"/>
          <a:ext cx="3301920" cy="5730840"/>
        </p:xfrm>
        <a:graphic>
          <a:graphicData uri="http://schemas.openxmlformats.org/drawingml/2006/table">
            <a:tbl>
              <a:tblPr/>
              <a:tblGrid>
                <a:gridCol w="906480"/>
                <a:gridCol w="2395440"/>
              </a:tblGrid>
              <a:tr h="2979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PA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mplementar o plano de ação para reduzir os risco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tabelecer prioridad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star os fatores de risco encontrados e as ações propost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dentificar o (s) responsável (s) pelo plano e sua implementaç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star a data de avaliação do risco no formulári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1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PA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finir a periodicidade de reavaliação do risc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ª reavaliação - às 72 horas, após a 1.ª ou a inici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manal, e sempre que haja mudança do padrão de risco do do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última avaliação é feita à saída do doente e deve constar na carta de alta/transferên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ângulo 6"/>
          <p:cNvSpPr/>
          <p:nvPr/>
        </p:nvSpPr>
        <p:spPr>
          <a:xfrm>
            <a:off x="5540400" y="0"/>
            <a:ext cx="3603600" cy="682560"/>
          </a:xfrm>
          <a:prstGeom prst="rect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Open Sans"/>
              </a:rPr>
              <a:t>RESUMO: ETAPAS DA AVALIAÇÃO DE R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289160" y="0"/>
            <a:ext cx="656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162080" y="0"/>
            <a:ext cx="681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1200240" y="341280"/>
            <a:ext cx="6032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  <a:ea typeface="Arial"/>
              </a:rPr>
              <a:t>Implementação das Precauções Bási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  <a:ea typeface="Arial"/>
              </a:rPr>
              <a:t>de Controlo de Infe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1333440" y="1403280"/>
            <a:ext cx="755640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Open Sans"/>
                <a:ea typeface="Arial"/>
              </a:rPr>
              <a:t>Objetivo: </a:t>
            </a:r>
            <a:r>
              <a:rPr b="1" lang="en-US" sz="2000" spc="-1" strike="noStrike">
                <a:solidFill>
                  <a:srgbClr val="002060"/>
                </a:solidFill>
                <a:latin typeface="Open Sans"/>
                <a:ea typeface="Arial"/>
              </a:rPr>
              <a:t>Abordar, no âmbito das Precauções básicas de controlo de infeção (PBCI), a Avaliação do Risco Individual do Doente para a Infe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Open Sans"/>
                <a:ea typeface="Arial"/>
              </a:rPr>
              <a:t>Estrutura da Apresenta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en Sans"/>
                <a:ea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Open Sans"/>
                <a:ea typeface="Arial"/>
              </a:rPr>
              <a:t>Revisão breve dos conceit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Open Sans"/>
                <a:ea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Open Sans"/>
                <a:ea typeface="Arial"/>
              </a:rPr>
              <a:t>Nor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Open Sans"/>
                <a:ea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Open Sans"/>
                <a:ea typeface="Arial"/>
              </a:rPr>
              <a:t>Metodologia de Avaliação do Risco Individual do Doente para a Infe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Open Sans"/>
                <a:ea typeface="Arial"/>
              </a:rPr>
              <a:t>  </a:t>
            </a:r>
            <a:r>
              <a:rPr b="1" lang="en-US" sz="1800" spc="-1" strike="noStrike">
                <a:solidFill>
                  <a:srgbClr val="002060"/>
                </a:solidFill>
                <a:latin typeface="Open Sans"/>
                <a:ea typeface="Arial"/>
              </a:rPr>
              <a:t>Conclus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Open Sans"/>
                <a:ea typeface="Arial"/>
              </a:rPr>
              <a:t>Duração: </a:t>
            </a:r>
            <a:r>
              <a:rPr b="0" lang="en-US" sz="1600" spc="-1" strike="noStrike">
                <a:solidFill>
                  <a:srgbClr val="000000"/>
                </a:solidFill>
                <a:latin typeface="Open Sans"/>
                <a:ea typeface="Arial"/>
              </a:rPr>
              <a:t>15 minutos de apresentação / 5 minutos de discussão fi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Marcador de Posição do Número do Diapositivo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2FB7-8297-41A0-BC15-F822BF18776A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em 5" descr="Logo_Departamento da Qualidade na Saúde.jpg"/>
          <p:cNvPicPr/>
          <p:nvPr/>
        </p:nvPicPr>
        <p:blipFill>
          <a:blip r:embed="rId1"/>
          <a:stretch/>
        </p:blipFill>
        <p:spPr>
          <a:xfrm>
            <a:off x="7170840" y="0"/>
            <a:ext cx="1969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Após avaliação do risc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38400"/>
            <a:ext cx="8362800" cy="5619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Medidas de controlo ambiental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– aumento de frequência de limpeza e desinfeção (se necessário) e da desinfeção complementar (ex: </a:t>
            </a:r>
            <a:r>
              <a:rPr b="0" i="1" lang="pt-PT" sz="2000" spc="-1" strike="noStrike">
                <a:solidFill>
                  <a:srgbClr val="000000"/>
                </a:solidFill>
                <a:latin typeface="Open Sans"/>
              </a:rPr>
              <a:t>Clostridium difficile, MRSA, Acinetobacter…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Máscara de proteção respiratória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(EN 149:2001 FFP2) – para proteção dos profissionais - se o agente suspeito/ confirmado for passível de transmissão por via aérea e por gotículas (ex: tuberculose pulmonar ativa)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Luvas e bata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para proteção total do profissional no caso de doente com escabiose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Restrição de profissionais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– evitar a exposição dos profissionais se não estão imunizados (ex: varicela, rubéola, sarampo)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Open Sans"/>
              </a:rPr>
              <a:t>Após avaliação do risco</a:t>
            </a:r>
            <a:endParaRPr b="0" lang="en-US" sz="3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238400"/>
            <a:ext cx="8362800" cy="5619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Restrição de visitas: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m situações específicas, pode ser necessário &lt; o n.º de visitas (ex: doente com microrganismo alerta/problema ou em caso de surto de infeção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Planeamento do transporte: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garantir as medidas durante o transporte, sempre que o doente se deslocar para fora do serviço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Imunização/ profilaxia após exposição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não protegida dos indivíduos suscetíveis (ex: meningite meningocócica, varicela, sarampo e varíola)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Imunização dos profissionais de saúde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- cumprir o plano vacinal de acordo com as indicações do SHSST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Open Sans"/>
              </a:rPr>
              <a:t>Após avaliação do risco</a:t>
            </a:r>
            <a:endParaRPr b="0" lang="en-US" sz="3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990720"/>
            <a:ext cx="8362800" cy="5867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Verificar se é uma infeção/doença de declaração obrigatória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: Enviar a Declaração Obrigatória de Doenças Transmissíveis da DGS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Reportar os casos de infeção/colonização ao GCL-PPCIR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: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Doente admitido já com infeção ativa ou colonização (incluindo as transmissíveis);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Doente com infeção adquirida no hospital ou suspeita de colonização: reportar ao GCL-PPCIRA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stes dados são também relevantes para o plano de VE de cada Hospital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Outras questões ou dúvidas que possam surgir: </a:t>
            </a:r>
            <a:r>
              <a:rPr b="1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contactar o GCL-PPCIRA do Hospital/outra US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ângulo 1"/>
          <p:cNvSpPr/>
          <p:nvPr/>
        </p:nvSpPr>
        <p:spPr>
          <a:xfrm>
            <a:off x="1095480" y="371520"/>
            <a:ext cx="703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Etapas da Avaliação do Risco de Infe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028880" y="820800"/>
          <a:ext cx="7981920" cy="5732280"/>
        </p:xfrm>
        <a:graphic>
          <a:graphicData uri="http://schemas.openxmlformats.org/drawingml/2006/table">
            <a:tbl>
              <a:tblPr/>
              <a:tblGrid>
                <a:gridCol w="1047600"/>
                <a:gridCol w="6934320"/>
              </a:tblGrid>
              <a:tr h="24588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Etap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Descri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463760"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P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entificar o risco de infeção na admiss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ompletar até às 24 horas de internament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o ser admitido, o doente tem já uma infeção ativa ou suspeita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 a probabilidade do doente adquirir infeçã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m está exposto aos fatores de risco – o próprio doente, outros doentes, os profissionais de saúde, os visitant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 é o agente infecioso em causa (caso haja já conhecimento ou suspeita do estado infecioso do doente)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82880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PA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ar a exposição ao fator de risco de infeçã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 doente tem fatores de risco de infeçã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ais e sintomas de infe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ça de sangue e matéria orgânic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dimentos invasivos a realiz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 doente tem fatores de risco adicionais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amento em áreas de alto risco (UCI, Queimados, Hematologi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unossupress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últiplos dispositivos invas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ecção ativa ou presumi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2193840"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P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entificar as medidas a implementar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olamento em quarto individual? Se sim, é de contenção ou de proteçã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olamento de Coorte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rto com ventilação com pressão negativa ou positiva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car o doente na unidade de internamento, com base na avaliação do risco e os recursos disponíve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cauções Básicas – em todos os procedimentos e em todos os do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cauções dependentes das vias de transmissão - avaliar quais as precauções adicionais a implementar, de acordo com o microrganismo/patologia em causa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tícul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é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ângulo 1"/>
          <p:cNvSpPr/>
          <p:nvPr/>
        </p:nvSpPr>
        <p:spPr>
          <a:xfrm>
            <a:off x="1095480" y="371520"/>
            <a:ext cx="587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Etapas da Avaliação do Risco de Infe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803240" y="1847880"/>
          <a:ext cx="6874200" cy="3343320"/>
        </p:xfrm>
        <a:graphic>
          <a:graphicData uri="http://schemas.openxmlformats.org/drawingml/2006/table">
            <a:tbl>
              <a:tblPr/>
              <a:tblGrid>
                <a:gridCol w="1887840"/>
                <a:gridCol w="4986360"/>
              </a:tblGrid>
              <a:tr h="173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PA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lementar o um plano de ação para reduzir os riscos e estabelecer prioridades nos procedimentos com base na sua importância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ar os fatores de risco encontrados e as ações proposta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entificar o (s) responsável (s) pelo plano e sua implementaç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ar a data de implementação no processo clínic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PA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r a periodicidade de reavaliação do risc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eira reavaliação às 72/96 ho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pre que haja mudança do padrão de risco do do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lo menos uma vez por seman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última avaliação deve constar na carta de alta/transferência do doente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256680"/>
            <a:ext cx="8229600" cy="5743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Ao avaliar o risco dos doentes para a infeção, os profissionais devem incluir: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a)Presença de fatores de risco extrínseco e intrínseco dos doentes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(avaliação da vulnerabilidade dos doentes): Algália, Cateter intravascular central; Cateter vascular periférico; Cirurgia, Drenagens; Ventilação mecânica; Procedimentos invasivos não cirúrgicos (técnicas endoscópicas ou técnicas de substituição renal); Outros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 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b)Se há infeção ativa ou suspeita, ou colonização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(prevenção da transmissão cruzada na Unidade + avaliação da vulnerabilidade do doente e dos que estão próximos deste + proteção dos profissionais)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Localização da infeção: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Urinária; Respiratória, Corrente sanguínea; Local cirúrgico; Intra-abdominal; Gastrintestinal; Meníngea; Pele e tecidos moles; Osteoarticular; Outras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79520"/>
            <a:ext cx="82296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Avaliação do risco de exposição dos profissionais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371240"/>
            <a:ext cx="8524800" cy="5295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-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valiação individual que cada profissional faz antes da interação com o doente e, de acordo com a situação clínica do mesmo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- Deve prever o risco de: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Contaminação da pele ou fardamento por microrganismos do ambiente do doente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xposição a sangue, outros fluidos orgânicos, secreções, excreções;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xposição a pele não intacta;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xposição a mucosas;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xposição a superfícies ou equipamentos contaminados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619200" y="209520"/>
            <a:ext cx="64292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upos de Medidas de Prevenção 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rolo da transmiss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uzada da Infe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76440" y="1666800"/>
            <a:ext cx="8200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quear a passagem de colonização a infe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mar medidas relativas à exposição desnecessária dos doentes a dispositivos inva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mover o uso racional de antimicrobi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eger/modificar o risco do hospedeir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mar medidas para identificação e proteção dos doentes mais suscetíve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egurar o diagnóstico e tratamento precoces da infe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screver antibióticos de forma racional/asser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ângulo 2"/>
          <p:cNvSpPr/>
          <p:nvPr/>
        </p:nvSpPr>
        <p:spPr>
          <a:xfrm>
            <a:off x="771480" y="1352520"/>
            <a:ext cx="8096400" cy="522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dotar a avaliação de risco de infeção organizacional e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Identificar as práticas de CI inseguras, desnecessárias e inefica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Ser mais PROACTIVO e menos reativ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Gastar algum tempo do dia  ou da semana para PENSAR em como se poderá encontrar uma direção estratégica para a Organ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nalisar os dados de vigilância epidemiológica da infeção da Unidade de Saúde, e os dados obtidos através das auditorias e eventos adve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nalisar a informação, identificar os PROBLEMAS-CHAVE e os al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riorizar as ações usando o princípio de Pareto (80/20)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Elaborar um plano de ação e apontar soluções, com base nas necessidades locais e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Implementar soluções simples e eficazes, que sejam exequíve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ângulo 3"/>
          <p:cNvSpPr/>
          <p:nvPr/>
        </p:nvSpPr>
        <p:spPr>
          <a:xfrm>
            <a:off x="942840" y="533520"/>
            <a:ext cx="578196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CONCLUS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0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Avaliação do risco de exposição dos profissionais: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677960"/>
            <a:ext cx="8124840" cy="49896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59000"/>
          </a:bodyPr>
          <a:p>
            <a:pPr marL="202320" indent="-20232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Nas situações de possível risco de transmissão cruzada, 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é recomendado em cada avaliação: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- Determinar o 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tipo de isolamento necessário ao doente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, com base na avaliação do risco e na sua exequibilidade, e de acordo com as infraestruturas e recursos existentes: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438120" indent="-1684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Isolamento </a:t>
            </a:r>
            <a:r>
              <a:rPr b="1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estrito ou individual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(quarto individual com casa de banho);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438120" indent="-1684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Coorte;  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438120" indent="-1684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De contacto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- Definir as medidas de intervenção necessárias para prevenir a transmissão durante a interação planeada - inclui a seleção e uso adequados dos EPI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 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Abordagem do risc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71600" y="1800360"/>
            <a:ext cx="743904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Open Sans"/>
              </a:rPr>
              <a:t>Perigo (Hazard):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é definido como algo com potencial de causar dano: ex: microrganismos, desinfetantes e antisséticos…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Risco (</a:t>
            </a:r>
            <a:r>
              <a:rPr b="1" i="1" lang="pt-PT" sz="1800" spc="-1" strike="noStrike">
                <a:solidFill>
                  <a:srgbClr val="000000"/>
                </a:solidFill>
                <a:latin typeface="Open Sans"/>
              </a:rPr>
              <a:t>Risk)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: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é definido como a probabilidade de um dano, a partir do perigo…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Infeção adquirida pelos profissionais de saúde decorrente de exposição a sangue/outros fluidos orgânicos, material cortoperfurante, desinfetantes em ambiente não ou mal ventilado…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–  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Risco de infeção cruzada para os doentes, visitantes e profissionais de saúde, relacionados com falhas  no isolamento do doente ou no cumprimentos das boas práticas nos procedimentos clínicos…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– 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Reutilização de materiais e equipamentos clínicos e não clínicos entre doentes sem serem submetidos a um processo adequado de  descontaminação…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Open Sans"/>
              </a:rPr>
              <a:t>Fonte: Hubbard D. </a:t>
            </a:r>
            <a:r>
              <a:rPr b="0" i="1" lang="pt-PT" sz="800" spc="-1" strike="noStrike">
                <a:solidFill>
                  <a:srgbClr val="000000"/>
                </a:solidFill>
                <a:latin typeface="Open Sans"/>
              </a:rPr>
              <a:t>The Failure of Risk Management: Why It's Broken and How to Fix It. </a:t>
            </a:r>
            <a:r>
              <a:rPr b="0" lang="pt-PT" sz="800" spc="-1" strike="noStrike">
                <a:solidFill>
                  <a:srgbClr val="000000"/>
                </a:solidFill>
                <a:latin typeface="Open Sans"/>
              </a:rPr>
              <a:t>John Wiley &amp; Sons,2009.</a:t>
            </a:r>
            <a:endParaRPr b="0" lang="en-US" sz="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Imagem 1" descr=""/>
          <p:cNvPicPr/>
          <p:nvPr/>
        </p:nvPicPr>
        <p:blipFill>
          <a:blip r:embed="rId1"/>
          <a:stretch/>
        </p:blipFill>
        <p:spPr>
          <a:xfrm>
            <a:off x="2023920" y="195120"/>
            <a:ext cx="5770800" cy="6488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90400"/>
            <a:ext cx="8229600" cy="8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7" name="Rectângulo 40"/>
          <p:cNvSpPr/>
          <p:nvPr/>
        </p:nvSpPr>
        <p:spPr>
          <a:xfrm>
            <a:off x="1552680" y="0"/>
            <a:ext cx="6924600" cy="561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Algoritmo de Avaliação de Risco para o Profiss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2111400" y="492120"/>
            <a:ext cx="529128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8" descr=""/>
          <p:cNvPicPr/>
          <p:nvPr/>
        </p:nvPicPr>
        <p:blipFill>
          <a:blip r:embed="rId1"/>
          <a:stretch/>
        </p:blipFill>
        <p:spPr>
          <a:xfrm>
            <a:off x="1066680" y="39600"/>
            <a:ext cx="719316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Diagrama 1" descr=""/>
          <p:cNvPicPr/>
          <p:nvPr/>
        </p:nvPicPr>
        <p:blipFill>
          <a:blip r:embed="rId1"/>
          <a:srcRect l="0" t="0" r="0" b="-2312"/>
          <a:stretch/>
        </p:blipFill>
        <p:spPr>
          <a:xfrm>
            <a:off x="1971720" y="0"/>
            <a:ext cx="550224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ângulo 2"/>
          <p:cNvSpPr/>
          <p:nvPr/>
        </p:nvSpPr>
        <p:spPr>
          <a:xfrm>
            <a:off x="3495600" y="6257880"/>
            <a:ext cx="1200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Open Sans"/>
              </a:rPr>
              <a:t>id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ângulo 3"/>
          <p:cNvSpPr/>
          <p:nvPr/>
        </p:nvSpPr>
        <p:spPr>
          <a:xfrm flipH="1">
            <a:off x="4838040" y="6257880"/>
            <a:ext cx="1181160" cy="3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Open Sans"/>
              </a:rPr>
              <a:t>id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ângulo 4"/>
          <p:cNvSpPr/>
          <p:nvPr/>
        </p:nvSpPr>
        <p:spPr>
          <a:xfrm>
            <a:off x="6162840" y="6276960"/>
            <a:ext cx="1190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Open Sans"/>
              </a:rPr>
              <a:t>id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eta para baixo 5"/>
          <p:cNvSpPr/>
          <p:nvPr/>
        </p:nvSpPr>
        <p:spPr>
          <a:xfrm>
            <a:off x="2533680" y="1724040"/>
            <a:ext cx="162000" cy="33336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05080" y="2130120"/>
            <a:ext cx="7053120" cy="14698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Slides complementare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94440" cy="17524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17375e"/>
                </a:solidFill>
                <a:latin typeface="Open Sans"/>
              </a:rPr>
              <a:t>A serem usados pelos GCL-PPCIRA que o queiram!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Abordagem do risc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314360" y="1961640"/>
            <a:ext cx="74772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Fator de Risco =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Probabilidade (frequência) </a:t>
            </a: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x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 impacto (severidade)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s dados de incidência da infeção resultantes da VE nacional, regional e local dá uma ideia da probabilidade ou frequência e os relatórios de incidentes/eventos adverso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s auditorias às práticas de CI dá-nos informação da frequência das falhas relativamente aos procedimentos clínicos, de acordo com as 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guidelines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valiação do risco: dá-nos a informação do impacto e severidade da doença nos indivíduos (doentes, visitantes, profissionais de saúde…)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4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Programa de controlo de infeção no Hospital – Ex. de um método de Avaliação do Risco de Infeção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600200"/>
          <a:ext cx="8229600" cy="45752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Síndrome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Microrganis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Severidade da infe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(1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População em ri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(1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Vulnerabilid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(O PCI está preparado para gerir o proble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 </a:t>
                      </a: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(se melhor preparado = score + baix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(1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Score do Ri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(A severidade é determinada multiplicando os scor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IN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I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R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C. diffic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Influe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PA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ESBL/outros MM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Infeção uriná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V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22" name="Rectângulo 4"/>
          <p:cNvSpPr/>
          <p:nvPr/>
        </p:nvSpPr>
        <p:spPr>
          <a:xfrm>
            <a:off x="581040" y="6134040"/>
            <a:ext cx="8191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Fonte: webeer SG et al: “</a:t>
            </a:r>
            <a:r>
              <a:rPr b="1" i="1" lang="pt-PT" sz="1000" spc="-1" strike="noStrike">
                <a:solidFill>
                  <a:srgbClr val="000000"/>
                </a:solidFill>
                <a:latin typeface="Open Sans"/>
              </a:rPr>
              <a:t>Healthcare associated infections</a:t>
            </a: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”. Oxford university Press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Matriz do Risc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80880" y="2270160"/>
          <a:ext cx="7848720" cy="3108240"/>
        </p:xfrm>
        <a:graphic>
          <a:graphicData uri="http://schemas.openxmlformats.org/drawingml/2006/table">
            <a:tbl>
              <a:tblPr/>
              <a:tblGrid>
                <a:gridCol w="1408320"/>
                <a:gridCol w="1293840"/>
                <a:gridCol w="1222200"/>
                <a:gridCol w="1308240"/>
                <a:gridCol w="1307880"/>
                <a:gridCol w="130824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3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Probabilida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3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Frequênci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3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Irreleva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ino</a:t>
                      </a: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r/Bai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ode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aj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Quase  cer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1: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Prová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1: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ode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Possív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1: 1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ode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Não prová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1:10.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ode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Ra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1: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ode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</a:tbl>
          </a:graphicData>
        </a:graphic>
      </p:graphicFrame>
      <p:sp>
        <p:nvSpPr>
          <p:cNvPr id="225" name="Chamada com seta para baixo 4"/>
          <p:cNvSpPr/>
          <p:nvPr/>
        </p:nvSpPr>
        <p:spPr>
          <a:xfrm rot="2860800">
            <a:off x="7202160" y="1304640"/>
            <a:ext cx="1847880" cy="1069920"/>
          </a:xfrm>
          <a:prstGeom prst="downArrowCallout">
            <a:avLst>
              <a:gd name="adj1" fmla="val 24997"/>
              <a:gd name="adj2" fmla="val 25003"/>
              <a:gd name="adj3" fmla="val 25000"/>
              <a:gd name="adj4" fmla="val 64977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300" spc="-1" strike="noStrike">
                <a:solidFill>
                  <a:srgbClr val="000000"/>
                </a:solidFill>
                <a:latin typeface="Open Sans"/>
              </a:rPr>
              <a:t>Alta Priorida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Open Sans"/>
              </a:rPr>
              <a:t>Identificar os recursos onde o risco é &gt; elev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33360" y="5479920"/>
          <a:ext cx="7867800" cy="1096920"/>
        </p:xfrm>
        <a:graphic>
          <a:graphicData uri="http://schemas.openxmlformats.org/drawingml/2006/table">
            <a:tbl>
              <a:tblPr/>
              <a:tblGrid>
                <a:gridCol w="3933720"/>
                <a:gridCol w="3934080"/>
              </a:tblGrid>
              <a:tr h="548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E: risco severo/gr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Requer medidas imedia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: risco alto/elev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Requer priorização das med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: risco mode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Requer medidas plane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: risco baix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Requer PB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ângulo 17"/>
          <p:cNvSpPr/>
          <p:nvPr/>
        </p:nvSpPr>
        <p:spPr>
          <a:xfrm>
            <a:off x="0" y="876240"/>
            <a:ext cx="9144000" cy="59817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1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Priorizar os risc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724040" y="2009880"/>
          <a:ext cx="5952960" cy="3520800"/>
        </p:xfrm>
        <a:graphic>
          <a:graphicData uri="http://schemas.openxmlformats.org/drawingml/2006/table">
            <a:tbl>
              <a:tblPr/>
              <a:tblGrid>
                <a:gridCol w="2976480"/>
                <a:gridCol w="2976480"/>
              </a:tblGrid>
              <a:tr h="15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a sever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a frequê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INC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a sever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a frequê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infeção por reutilização de seringas/agulh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19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a sever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a frequê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infeções associadas à roupa hospital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a sever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a frequê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Infeção urinár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sp>
        <p:nvSpPr>
          <p:cNvPr id="230" name="Rectângulo 5"/>
          <p:cNvSpPr/>
          <p:nvPr/>
        </p:nvSpPr>
        <p:spPr>
          <a:xfrm>
            <a:off x="3362400" y="5838840"/>
            <a:ext cx="29052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FREQUÊ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ângulo 6"/>
          <p:cNvSpPr/>
          <p:nvPr/>
        </p:nvSpPr>
        <p:spPr>
          <a:xfrm>
            <a:off x="885960" y="5572080"/>
            <a:ext cx="82872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Bai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ângulo 7"/>
          <p:cNvSpPr/>
          <p:nvPr/>
        </p:nvSpPr>
        <p:spPr>
          <a:xfrm>
            <a:off x="7772400" y="5438880"/>
            <a:ext cx="723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ângulo 8"/>
          <p:cNvSpPr/>
          <p:nvPr/>
        </p:nvSpPr>
        <p:spPr>
          <a:xfrm>
            <a:off x="971640" y="1657440"/>
            <a:ext cx="723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ângulo 9"/>
          <p:cNvSpPr/>
          <p:nvPr/>
        </p:nvSpPr>
        <p:spPr>
          <a:xfrm>
            <a:off x="685800" y="2095560"/>
            <a:ext cx="390600" cy="33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S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Conexão recta unidireccional 11"/>
          <p:cNvCxnSpPr/>
          <p:nvPr/>
        </p:nvCxnSpPr>
        <p:spPr>
          <a:xfrm flipV="1">
            <a:off x="1238040" y="2009160"/>
            <a:ext cx="38520" cy="3400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" name="Conexão recta unidireccional 16"/>
          <p:cNvCxnSpPr/>
          <p:nvPr/>
        </p:nvCxnSpPr>
        <p:spPr>
          <a:xfrm flipV="1">
            <a:off x="1809360" y="5695200"/>
            <a:ext cx="5915880" cy="1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57120" y="1904760"/>
            <a:ext cx="74293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Avaliação do Risco</a:t>
            </a:r>
            <a:r>
              <a:rPr b="1" i="1" lang="pt-PT" sz="1800" spc="-1" strike="noStrike">
                <a:solidFill>
                  <a:srgbClr val="000000"/>
                </a:solidFill>
                <a:latin typeface="Open Sans"/>
              </a:rPr>
              <a:t> (Risk assessment):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é um processo sistémico de avaliação e integração do juízo clínico/profissional, sobre as condições adversas e/ou eventos adversos, relevantes para a infeção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•  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Gestão do Risco (</a:t>
            </a:r>
            <a:r>
              <a:rPr b="1" i="1" lang="pt-PT" sz="1800" spc="-1" strike="noStrike">
                <a:solidFill>
                  <a:srgbClr val="000000"/>
                </a:solidFill>
                <a:latin typeface="Open Sans"/>
              </a:rPr>
              <a:t>Risk management)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: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é a identificação, avaliação e priorização dos riscos associados aos cuidados de saúde, seguido de boa gestão coordenada e económica dos recursos, para minimizar, monitorizar e controlar a probabilidade e/ou impacto dos eventos adversos com implicações na infeção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Open Sans"/>
              </a:rPr>
              <a:t>Fonte: Hubbard D. </a:t>
            </a:r>
            <a:r>
              <a:rPr b="0" i="1" lang="pt-PT" sz="1100" spc="-1" strike="noStrike">
                <a:solidFill>
                  <a:srgbClr val="000000"/>
                </a:solidFill>
                <a:latin typeface="Open Sans"/>
              </a:rPr>
              <a:t>The Failure of Risk Management: Why It's Broken and How to Fix It. </a:t>
            </a:r>
            <a:r>
              <a:rPr b="0" lang="pt-PT" sz="1100" spc="-1" strike="noStrike">
                <a:solidFill>
                  <a:srgbClr val="000000"/>
                </a:solidFill>
                <a:latin typeface="Open Sans"/>
              </a:rPr>
              <a:t>John Wiley &amp; Sons,2009.</a:t>
            </a: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ângulo 17"/>
          <p:cNvSpPr/>
          <p:nvPr/>
        </p:nvSpPr>
        <p:spPr>
          <a:xfrm>
            <a:off x="0" y="876240"/>
            <a:ext cx="9144000" cy="59817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Priorizar os Risc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9" name="Rectângulo 9"/>
          <p:cNvSpPr/>
          <p:nvPr/>
        </p:nvSpPr>
        <p:spPr>
          <a:xfrm>
            <a:off x="923760" y="1104840"/>
            <a:ext cx="343080" cy="49719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da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Conexão recta unidireccional 11"/>
          <p:cNvCxnSpPr/>
          <p:nvPr/>
        </p:nvCxnSpPr>
        <p:spPr>
          <a:xfrm flipV="1">
            <a:off x="1361880" y="1266120"/>
            <a:ext cx="29160" cy="4677480"/>
          </a:xfrm>
          <a:prstGeom prst="straightConnector1">
            <a:avLst/>
          </a:prstGeom>
          <a:ln w="28440">
            <a:solidFill>
              <a:srgbClr val="17375e"/>
            </a:solidFill>
            <a:miter/>
            <a:tailEnd len="med" type="arrow" w="med"/>
          </a:ln>
        </p:spPr>
      </p:cxnSp>
      <p:sp>
        <p:nvSpPr>
          <p:cNvPr id="241" name="Fluxograma: extrair 13"/>
          <p:cNvSpPr/>
          <p:nvPr/>
        </p:nvSpPr>
        <p:spPr>
          <a:xfrm>
            <a:off x="1352520" y="1104840"/>
            <a:ext cx="5638680" cy="4934160"/>
          </a:xfrm>
          <a:prstGeom prst="flowChartExtra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ângulo arredondado 14"/>
          <p:cNvSpPr/>
          <p:nvPr/>
        </p:nvSpPr>
        <p:spPr>
          <a:xfrm>
            <a:off x="6381720" y="2133720"/>
            <a:ext cx="2400480" cy="97128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Prioridade Alta para implementação </a:t>
            </a:r>
            <a:r>
              <a:rPr b="1" lang="pt-PT" sz="1200" spc="-1" strike="noStrike">
                <a:solidFill>
                  <a:srgbClr val="000000"/>
                </a:solidFill>
                <a:latin typeface="Open Sans"/>
              </a:rPr>
              <a:t>(medidas custo-efetiv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ângulo arredondado 18"/>
          <p:cNvSpPr/>
          <p:nvPr/>
        </p:nvSpPr>
        <p:spPr>
          <a:xfrm>
            <a:off x="6524640" y="3467160"/>
            <a:ext cx="2324160" cy="971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Prioridade Intermédi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(usar o bom sens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ângulo arredondado 19"/>
          <p:cNvSpPr/>
          <p:nvPr/>
        </p:nvSpPr>
        <p:spPr>
          <a:xfrm>
            <a:off x="6943680" y="4896000"/>
            <a:ext cx="2028960" cy="74268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Prioridade Baix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</a:rPr>
              <a:t>(medidas </a:t>
            </a:r>
            <a:r>
              <a:rPr b="1" lang="pt-PT" sz="1200" spc="-1" strike="noStrike">
                <a:solidFill>
                  <a:srgbClr val="000000"/>
                </a:solidFill>
                <a:latin typeface="Open Sans"/>
              </a:rPr>
              <a:t>não </a:t>
            </a:r>
            <a:r>
              <a:rPr b="0" lang="pt-PT" sz="1200" spc="-1" strike="noStrike">
                <a:solidFill>
                  <a:srgbClr val="000000"/>
                </a:solidFill>
                <a:latin typeface="Open Sans"/>
              </a:rPr>
              <a:t>custo-efetiv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Conexão recta 21"/>
          <p:cNvSpPr/>
          <p:nvPr/>
        </p:nvSpPr>
        <p:spPr>
          <a:xfrm>
            <a:off x="2924280" y="340992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onexão recta 25"/>
          <p:cNvSpPr/>
          <p:nvPr/>
        </p:nvSpPr>
        <p:spPr>
          <a:xfrm>
            <a:off x="2095560" y="4743360"/>
            <a:ext cx="4143240" cy="3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ângulo 31"/>
          <p:cNvSpPr/>
          <p:nvPr/>
        </p:nvSpPr>
        <p:spPr>
          <a:xfrm>
            <a:off x="3295800" y="2705040"/>
            <a:ext cx="1733400" cy="5716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Severidade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: </a:t>
            </a:r>
            <a:r>
              <a:rPr b="0" i="1" lang="pt-PT" sz="1400" spc="-1" strike="noStrike">
                <a:solidFill>
                  <a:srgbClr val="000000"/>
                </a:solidFill>
                <a:latin typeface="Open Sans"/>
              </a:rPr>
              <a:t>maj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Frequência: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 a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Custo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: baix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ângulo 33"/>
          <p:cNvSpPr/>
          <p:nvPr/>
        </p:nvSpPr>
        <p:spPr>
          <a:xfrm>
            <a:off x="2800440" y="3638520"/>
            <a:ext cx="2590560" cy="6001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Severidade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: 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mode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Frequência: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 intermé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Custo: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 mode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ângulo 34"/>
          <p:cNvSpPr/>
          <p:nvPr/>
        </p:nvSpPr>
        <p:spPr>
          <a:xfrm>
            <a:off x="2200320" y="4933800"/>
            <a:ext cx="3828960" cy="6001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Severidade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: </a:t>
            </a:r>
            <a:r>
              <a:rPr b="0" i="1" lang="pt-PT" sz="1400" spc="-1" strike="noStrike">
                <a:solidFill>
                  <a:srgbClr val="000000"/>
                </a:solidFill>
                <a:latin typeface="Open Sans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Frequência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: baix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Custo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: a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Conexão recta unidireccional 36"/>
          <p:cNvCxnSpPr/>
          <p:nvPr/>
        </p:nvCxnSpPr>
        <p:spPr>
          <a:xfrm flipV="1">
            <a:off x="5133960" y="2818800"/>
            <a:ext cx="1239120" cy="1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51" name="Conexão recta unidireccional 38"/>
          <p:cNvCxnSpPr/>
          <p:nvPr/>
        </p:nvCxnSpPr>
        <p:spPr>
          <a:xfrm flipV="1">
            <a:off x="5791320" y="3933000"/>
            <a:ext cx="705240" cy="10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52" name="Conexão recta unidireccional 40"/>
          <p:cNvCxnSpPr>
            <a:endCxn id="244" idx="1"/>
          </p:cNvCxnSpPr>
          <p:nvPr/>
        </p:nvCxnSpPr>
        <p:spPr>
          <a:xfrm>
            <a:off x="6552720" y="5266800"/>
            <a:ext cx="3913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Controlar o Risco: Pensar nas soluções possíveis!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4" name="Rectângulo 20"/>
          <p:cNvSpPr/>
          <p:nvPr/>
        </p:nvSpPr>
        <p:spPr>
          <a:xfrm>
            <a:off x="1409760" y="1693800"/>
            <a:ext cx="7381800" cy="6426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ODE-SE EVITAR o RIS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. Não reutilizar agulhas/serin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eta para baixo 22"/>
          <p:cNvSpPr/>
          <p:nvPr/>
        </p:nvSpPr>
        <p:spPr>
          <a:xfrm>
            <a:off x="4657680" y="2333520"/>
            <a:ext cx="228600" cy="428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ângulo 23"/>
          <p:cNvSpPr/>
          <p:nvPr/>
        </p:nvSpPr>
        <p:spPr>
          <a:xfrm>
            <a:off x="1476360" y="2760840"/>
            <a:ext cx="7296120" cy="9169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ODE-SE MINIMIZAR o RIS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: Reduzir o risco apostando na formação e treino nas PBCI e técnica ass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ângulo 24"/>
          <p:cNvSpPr/>
          <p:nvPr/>
        </p:nvSpPr>
        <p:spPr>
          <a:xfrm>
            <a:off x="1457280" y="4160880"/>
            <a:ext cx="7400880" cy="11912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ODE-SE CONTRIBUIR para AUMENTAR o RISCO de INFEÇÃO CRUZ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: Transferir o risco para serviços preparados: apostar na centralização da esterilização e na gestão integrada dos resídu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ângulo 26"/>
          <p:cNvSpPr/>
          <p:nvPr/>
        </p:nvSpPr>
        <p:spPr>
          <a:xfrm>
            <a:off x="1476360" y="5446800"/>
            <a:ext cx="7362720" cy="9169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ODE-SE ACEITAR o RIS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: Aceitar o risco a um nível não prejudicial -  i.é., com baixo risco, mas com intervenções enérgicas e custo-efica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eta para baixo 27"/>
          <p:cNvSpPr/>
          <p:nvPr/>
        </p:nvSpPr>
        <p:spPr>
          <a:xfrm>
            <a:off x="4714920" y="3714840"/>
            <a:ext cx="218880" cy="40932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eta para baixo 28"/>
          <p:cNvSpPr/>
          <p:nvPr/>
        </p:nvSpPr>
        <p:spPr>
          <a:xfrm>
            <a:off x="4686480" y="5280120"/>
            <a:ext cx="223560" cy="15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23960" y="133200"/>
            <a:ext cx="8229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Fases da Avaliação do Risc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2" name="Rectângulo 7"/>
          <p:cNvSpPr/>
          <p:nvPr/>
        </p:nvSpPr>
        <p:spPr>
          <a:xfrm>
            <a:off x="3048120" y="876240"/>
            <a:ext cx="3743280" cy="19623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Open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  <a:ea typeface="Arial"/>
              </a:rPr>
              <a:t>Identificar Ri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Identificar riscos/peri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Avaliar quem pode ser atingido (doentes, visitas, profissionais, comunid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Quantificar o risco obtendo informação da frequência (probabilidade) e impacto nos indivídu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4" name="Rectângulo 11"/>
          <p:cNvSpPr/>
          <p:nvPr/>
        </p:nvSpPr>
        <p:spPr>
          <a:xfrm>
            <a:off x="6381720" y="3181320"/>
            <a:ext cx="2486160" cy="1438200"/>
          </a:xfrm>
          <a:prstGeom prst="rect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2. Analisar os Ri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Medir os potenciais impa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Registar os eventos/infe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Desenvolver uma Matriz de Ri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ângulo 12"/>
          <p:cNvSpPr/>
          <p:nvPr/>
        </p:nvSpPr>
        <p:spPr>
          <a:xfrm>
            <a:off x="447840" y="2971800"/>
            <a:ext cx="2199960" cy="192420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4. Monitorizar os Ri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Monitorizar o risco e reavali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Rever o plano para eliminar e/ou reduzir o risco para o míni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ângulo 13"/>
          <p:cNvSpPr/>
          <p:nvPr/>
        </p:nvSpPr>
        <p:spPr>
          <a:xfrm>
            <a:off x="3657600" y="5210280"/>
            <a:ext cx="2943360" cy="14857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3. Implementar medidas de Contr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Avaliar e priorizar as medidas, baseadas na severidade, frequência e custo-eficá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hamada com seta para a esquerda 14"/>
          <p:cNvSpPr/>
          <p:nvPr/>
        </p:nvSpPr>
        <p:spPr>
          <a:xfrm>
            <a:off x="2685960" y="2971800"/>
            <a:ext cx="3476880" cy="1914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4983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Relatar e dar</a:t>
            </a:r>
            <a:r>
              <a:rPr b="0" i="1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 feedback </a:t>
            </a: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às pessoas alvo na unidade de saú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Aparajita"/>
                <a:ea typeface="Aparajita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Monitorizar, para assegurar o cumprimento dos planos de ação, através de auditorias internas e de VE da infe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eta em curva 15"/>
          <p:cNvSpPr/>
          <p:nvPr/>
        </p:nvSpPr>
        <p:spPr>
          <a:xfrm>
            <a:off x="1371600" y="1104840"/>
            <a:ext cx="1676520" cy="1847880"/>
          </a:xfrm>
          <a:custGeom>
            <a:avLst/>
            <a:gdLst/>
            <a:ahLst/>
            <a:rect l="l" t="t" r="r" b="b"/>
            <a:pathLst>
              <a:path w="1676400" h="1847850">
                <a:moveTo>
                  <a:pt x="0" y="1847850"/>
                </a:moveTo>
                <a:lnTo>
                  <a:pt x="0" y="942975"/>
                </a:lnTo>
                <a:cubicBezTo>
                  <a:pt x="0" y="537916"/>
                  <a:pt x="328366" y="209550"/>
                  <a:pt x="733425" y="209550"/>
                </a:cubicBezTo>
                <a:lnTo>
                  <a:pt x="1257300" y="209550"/>
                </a:lnTo>
                <a:lnTo>
                  <a:pt x="1257300" y="0"/>
                </a:lnTo>
                <a:lnTo>
                  <a:pt x="1676400" y="419100"/>
                </a:lnTo>
                <a:lnTo>
                  <a:pt x="1257300" y="838200"/>
                </a:lnTo>
                <a:lnTo>
                  <a:pt x="1257300" y="628650"/>
                </a:lnTo>
                <a:lnTo>
                  <a:pt x="733425" y="628650"/>
                </a:lnTo>
                <a:cubicBezTo>
                  <a:pt x="559828" y="628650"/>
                  <a:pt x="419100" y="769378"/>
                  <a:pt x="419100" y="942975"/>
                </a:cubicBezTo>
                <a:lnTo>
                  <a:pt x="419100" y="1847850"/>
                </a:lnTo>
                <a:lnTo>
                  <a:pt x="0" y="1847850"/>
                </a:lnTo>
                <a:close/>
              </a:path>
            </a:pathLst>
          </a:custGeom>
          <a:solidFill>
            <a:srgbClr val="95b3d7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ta em curva 17"/>
          <p:cNvSpPr/>
          <p:nvPr/>
        </p:nvSpPr>
        <p:spPr>
          <a:xfrm rot="5400000">
            <a:off x="6905160" y="1238040"/>
            <a:ext cx="1828800" cy="2019240"/>
          </a:xfrm>
          <a:custGeom>
            <a:avLst/>
            <a:gdLst/>
            <a:ahLst/>
            <a:rect l="l" t="t" r="r" b="b"/>
            <a:pathLst>
              <a:path w="1828800" h="2019300">
                <a:moveTo>
                  <a:pt x="0" y="2019300"/>
                </a:moveTo>
                <a:lnTo>
                  <a:pt x="0" y="1028700"/>
                </a:lnTo>
                <a:cubicBezTo>
                  <a:pt x="0" y="586817"/>
                  <a:pt x="358217" y="228600"/>
                  <a:pt x="800100" y="228600"/>
                </a:cubicBezTo>
                <a:lnTo>
                  <a:pt x="1371600" y="228600"/>
                </a:lnTo>
                <a:lnTo>
                  <a:pt x="1371600" y="0"/>
                </a:lnTo>
                <a:lnTo>
                  <a:pt x="1828800" y="457200"/>
                </a:lnTo>
                <a:lnTo>
                  <a:pt x="1371600" y="914400"/>
                </a:lnTo>
                <a:lnTo>
                  <a:pt x="1371600" y="685800"/>
                </a:lnTo>
                <a:lnTo>
                  <a:pt x="800100" y="685800"/>
                </a:lnTo>
                <a:cubicBezTo>
                  <a:pt x="610722" y="685800"/>
                  <a:pt x="457200" y="839322"/>
                  <a:pt x="457200" y="1028700"/>
                </a:cubicBezTo>
                <a:lnTo>
                  <a:pt x="457200" y="2019300"/>
                </a:lnTo>
                <a:lnTo>
                  <a:pt x="0" y="2019300"/>
                </a:lnTo>
                <a:close/>
              </a:path>
            </a:pathLst>
          </a:custGeom>
          <a:solidFill>
            <a:srgbClr val="95b3d7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eta em curva 19"/>
          <p:cNvSpPr/>
          <p:nvPr/>
        </p:nvSpPr>
        <p:spPr>
          <a:xfrm rot="10800000">
            <a:off x="6600600" y="4609800"/>
            <a:ext cx="1933560" cy="1942920"/>
          </a:xfrm>
          <a:custGeom>
            <a:avLst/>
            <a:gdLst/>
            <a:ahLst/>
            <a:rect l="l" t="t" r="r" b="b"/>
            <a:pathLst>
              <a:path w="1933575" h="1943100">
                <a:moveTo>
                  <a:pt x="0" y="1943100"/>
                </a:moveTo>
                <a:lnTo>
                  <a:pt x="0" y="1087636"/>
                </a:lnTo>
                <a:cubicBezTo>
                  <a:pt x="0" y="620437"/>
                  <a:pt x="378740" y="241697"/>
                  <a:pt x="845939" y="241697"/>
                </a:cubicBezTo>
                <a:lnTo>
                  <a:pt x="1450181" y="241697"/>
                </a:lnTo>
                <a:lnTo>
                  <a:pt x="1450181" y="0"/>
                </a:lnTo>
                <a:lnTo>
                  <a:pt x="1933575" y="483394"/>
                </a:lnTo>
                <a:lnTo>
                  <a:pt x="1450181" y="966788"/>
                </a:lnTo>
                <a:lnTo>
                  <a:pt x="1450181" y="725091"/>
                </a:lnTo>
                <a:lnTo>
                  <a:pt x="845939" y="725091"/>
                </a:lnTo>
                <a:cubicBezTo>
                  <a:pt x="645711" y="725091"/>
                  <a:pt x="483394" y="887408"/>
                  <a:pt x="483394" y="1087636"/>
                </a:cubicBezTo>
                <a:lnTo>
                  <a:pt x="483394" y="1943100"/>
                </a:lnTo>
                <a:lnTo>
                  <a:pt x="0" y="1943100"/>
                </a:lnTo>
                <a:close/>
              </a:path>
            </a:pathLst>
          </a:custGeom>
          <a:solidFill>
            <a:srgbClr val="95b3d7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eta em curva 20"/>
          <p:cNvSpPr/>
          <p:nvPr/>
        </p:nvSpPr>
        <p:spPr>
          <a:xfrm rot="16200000">
            <a:off x="1485720" y="4228560"/>
            <a:ext cx="1476360" cy="2790720"/>
          </a:xfrm>
          <a:custGeom>
            <a:avLst/>
            <a:gdLst/>
            <a:ahLst/>
            <a:rect l="l" t="t" r="r" b="b"/>
            <a:pathLst>
              <a:path w="1476375" h="2790825">
                <a:moveTo>
                  <a:pt x="0" y="2790825"/>
                </a:moveTo>
                <a:lnTo>
                  <a:pt x="0" y="830461"/>
                </a:lnTo>
                <a:cubicBezTo>
                  <a:pt x="0" y="473733"/>
                  <a:pt x="289186" y="184547"/>
                  <a:pt x="645914" y="184547"/>
                </a:cubicBezTo>
                <a:lnTo>
                  <a:pt x="1107281" y="184547"/>
                </a:lnTo>
                <a:lnTo>
                  <a:pt x="1107281" y="0"/>
                </a:lnTo>
                <a:lnTo>
                  <a:pt x="1476375" y="369094"/>
                </a:lnTo>
                <a:lnTo>
                  <a:pt x="1107281" y="738188"/>
                </a:lnTo>
                <a:lnTo>
                  <a:pt x="1107281" y="553641"/>
                </a:lnTo>
                <a:lnTo>
                  <a:pt x="645914" y="553641"/>
                </a:lnTo>
                <a:cubicBezTo>
                  <a:pt x="493031" y="553641"/>
                  <a:pt x="369094" y="677578"/>
                  <a:pt x="369094" y="830461"/>
                </a:cubicBezTo>
                <a:lnTo>
                  <a:pt x="369094" y="2790825"/>
                </a:lnTo>
                <a:lnTo>
                  <a:pt x="0" y="2790825"/>
                </a:lnTo>
                <a:close/>
              </a:path>
            </a:pathLst>
          </a:custGeom>
          <a:solidFill>
            <a:srgbClr val="95b3d7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Avaliação do risco de infeção: </a:t>
            </a:r>
            <a:br>
              <a:rPr sz="2000"/>
            </a:b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1. Características/Tipo de Microrganismo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95200" y="762120"/>
            <a:ext cx="8391600" cy="5364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Open Sans"/>
              </a:rPr>
              <a:t>– </a:t>
            </a: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Perigosidade dos agentes biológicos Grupos (1-4)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–</a:t>
            </a: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Estirpes sensíveis, </a:t>
            </a:r>
            <a:r>
              <a:rPr b="1" i="1" lang="pt-PT" sz="1000" spc="-1" strike="noStrike">
                <a:solidFill>
                  <a:srgbClr val="000000"/>
                </a:solidFill>
                <a:latin typeface="Open Sans"/>
              </a:rPr>
              <a:t>versus</a:t>
            </a: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 multirresistentes: MDR/XDR-TB, CRE, VRE, MRSA,ESBL,VISA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-Virulência entre algumas espécies: </a:t>
            </a:r>
            <a:r>
              <a:rPr b="1" i="1" lang="pt-PT" sz="1000" spc="-1" strike="noStrike">
                <a:solidFill>
                  <a:srgbClr val="000000"/>
                </a:solidFill>
                <a:latin typeface="Open Sans"/>
              </a:rPr>
              <a:t>C.difficile-</a:t>
            </a: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estirpe hipervirulenta 027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81080" y="1368360"/>
          <a:ext cx="8839080" cy="5435640"/>
        </p:xfrm>
        <a:graphic>
          <a:graphicData uri="http://schemas.openxmlformats.org/drawingml/2006/table">
            <a:tbl>
              <a:tblPr/>
              <a:tblGrid>
                <a:gridCol w="1093680"/>
                <a:gridCol w="4503600"/>
                <a:gridCol w="324180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Grupo de ris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Severidade da doença (morbilidade/mortalida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Exemp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Grup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Não  é provável  que cause doença nos huma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Gru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Pode causar doença nos humanos, incluindo doença profissional; Não é provável  que ocorra transmissão para a comunidade; Há habitualmente profilaxia/tratamento efe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Clostridium diffic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Staphylococcus aure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Bordetella pertus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Neisseria meningiCd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Varicella zo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Parotid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Gru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Pode causar doença 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severa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 nos humanos, e é um problema sério para os  profissionais; Pode ocorrer transmissão para a comunidade; Há habitualmente profilaxia/tratamento efe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Salmonella typ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E. coli O157/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M. tubercul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Chlamydia psitta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Hepatites B e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Grupo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Causa doença 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severa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 nos humanos, é um problema sério para os  profissionais; É expectável a transmissão para a comunidade; Não há habitualmente profilaxia/tratamento efe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Febre Viral Hemorragica: Lassa, Ebola, Marburg, Crimean/Congo, febre hemorrágica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Varí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Avaliação do risco de infeção: </a:t>
            </a:r>
            <a:br>
              <a:rPr sz="2000"/>
            </a:b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2. Severidade das Infeçõ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085760" y="1886040"/>
            <a:ext cx="76010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Colonização – sub-infeção – infeção severa – morte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Doente com MRSA, com eczema severo – risco de dispersão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Doente com história de tosse com BK positivo na expetoração – constitui  RISCO ELEVADO de transmissão da tuberculose nosocomia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Doente com diarreia: VRE, ESBL, CRE, 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C difficle e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utros patogéneos entéricos     constitui  RISCO ELEVADO de  contaminação do ambiente e de infeção cruzada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7" name="Seta para a direita 1"/>
          <p:cNvSpPr/>
          <p:nvPr/>
        </p:nvSpPr>
        <p:spPr>
          <a:xfrm>
            <a:off x="4067280" y="4613400"/>
            <a:ext cx="655560" cy="1904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eta para a direita 2"/>
          <p:cNvSpPr/>
          <p:nvPr/>
        </p:nvSpPr>
        <p:spPr>
          <a:xfrm>
            <a:off x="5705640" y="2416320"/>
            <a:ext cx="16344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eta para baixo 3"/>
          <p:cNvSpPr/>
          <p:nvPr/>
        </p:nvSpPr>
        <p:spPr>
          <a:xfrm>
            <a:off x="8339040" y="2948040"/>
            <a:ext cx="217440" cy="2998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7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Avaliação do risco de infeção: </a:t>
            </a:r>
            <a:br>
              <a:rPr sz="2000"/>
            </a:b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3. Suscetibilidade do Hospedeiro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85760" y="1886040"/>
            <a:ext cx="76010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- IMUNIDADE: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Exposição prévia a doenças com imunidade duradoura-Ex: Varicela,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Exposição prévia  a doenças de imunidade não duradoura- Ex: 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Influenza, Noroviru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História de imunização com vacinas de prevenção. Hep. B, MMR, BCG, etc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IMUNOSSUPRESSÃO: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ssociada a doença de base ou a quimioterapia/radioterapia/corticoides (altas doses)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1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O </a:t>
            </a:r>
            <a:r>
              <a:rPr b="1" i="1" lang="pt-PT" sz="1600" spc="-1" strike="noStrike">
                <a:solidFill>
                  <a:srgbClr val="000000"/>
                </a:solidFill>
                <a:latin typeface="Open Sans"/>
              </a:rPr>
              <a:t>princípio de Pareto  -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pode ser aplicado ao CI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, para estabelecer prioridades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, com base na estimativa de que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80% dos eventos adversos são geralmente resultado de 20%  das causas.</a:t>
            </a:r>
            <a:br>
              <a:rPr sz="1600"/>
            </a:b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O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Diagrama de </a:t>
            </a:r>
            <a:r>
              <a:rPr b="1" i="1" lang="pt-PT" sz="1600" spc="-1" strike="noStrike">
                <a:solidFill>
                  <a:srgbClr val="000000"/>
                </a:solidFill>
                <a:latin typeface="Open Sans"/>
              </a:rPr>
              <a:t>Pareto  -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é uma técnica simples para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priorizar potenciais causas 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através da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identificação de problemas 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1663560" y="2395440"/>
            <a:ext cx="689616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552320" y="2143080"/>
            <a:ext cx="735156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 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Diagrama de Pareto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ode ser gerado por aplicações informáticas simples e fáceis de usar: 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•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pen Office.org Calc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•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Microsoft Excel,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• 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utro Software especializado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Links: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- http://www.wikihow.com/Create-a‐Pareto‐Chart-in-MS-Excel‐2010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–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http://paretochart.org/paretochartemplateexcel/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000000"/>
                </a:solidFill>
                <a:latin typeface="Open Sans"/>
              </a:rPr>
              <a:t>Diagrama de Pareto</a:t>
            </a: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, aplicado ao CI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ângulo 1"/>
          <p:cNvSpPr/>
          <p:nvPr/>
        </p:nvSpPr>
        <p:spPr>
          <a:xfrm>
            <a:off x="942840" y="828720"/>
            <a:ext cx="654372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Open Sans"/>
              </a:rPr>
              <a:t>Obrigada pela Aten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4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Abordagem do risc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476000" y="2343240"/>
            <a:ext cx="7210440" cy="37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sta abordagem pode ser usada para os eventos/riscos provenientes do ambiente de cuidados de saúde, dos materiais/equipamentos bem como, os riscos relativos aos doentes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Open Sans"/>
              </a:rPr>
              <a:t>Fonte: Hubbard D. </a:t>
            </a:r>
            <a:r>
              <a:rPr b="0" i="1" lang="pt-PT" sz="1100" spc="-1" strike="noStrike">
                <a:solidFill>
                  <a:srgbClr val="000000"/>
                </a:solidFill>
                <a:latin typeface="Open Sans"/>
              </a:rPr>
              <a:t>The Failure of Risk Management: Why It's Broken and How to Fix It. </a:t>
            </a:r>
            <a:r>
              <a:rPr b="0" lang="pt-PT" sz="1100" spc="-1" strike="noStrike">
                <a:solidFill>
                  <a:srgbClr val="000000"/>
                </a:solidFill>
                <a:latin typeface="Open Sans"/>
              </a:rPr>
              <a:t>John Wiley &amp; Sons,2009.</a:t>
            </a: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Open Sans"/>
              </a:rPr>
              <a:t>FUNDAMENTOS</a:t>
            </a:r>
            <a:endParaRPr b="0" lang="en-US" sz="3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41280" y="2184480"/>
            <a:ext cx="762984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Avaliação de risco: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Processo que permite determinar o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Open Sans"/>
              </a:rPr>
              <a:t>nível de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Open Sans"/>
              </a:rPr>
              <a:t>gravidade do risco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(estimativa formal da probabilidade dos doentes sofrerem lesões/efeitos adversos para a saúde, como consequência de fatores de risco identificados na prestação de cuidados)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00"/>
                </a:solidFill>
                <a:uFillTx/>
                <a:latin typeface="Open Sans"/>
              </a:rPr>
              <a:t>estabelecer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Open Sans"/>
              </a:rPr>
              <a:t>prioridades 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de intervenção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e os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Open Sans"/>
              </a:rPr>
              <a:t>procedimentos adequados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Open Sans"/>
              </a:rPr>
              <a:t>para a sua gestão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Análise do Risc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3320" y="1036800"/>
            <a:ext cx="8528040" cy="5432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Possíveis causas de falhas no desempenho profissional: 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odem ocorrer por um “</a:t>
            </a:r>
            <a:r>
              <a:rPr b="1" i="1" lang="pt-PT" sz="1800" spc="-1" strike="noStrike">
                <a:solidFill>
                  <a:srgbClr val="000000"/>
                </a:solidFill>
                <a:latin typeface="Open Sans"/>
              </a:rPr>
              <a:t>ato de omissão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”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(ex: falha na adesão às práticas de evidência clínica aceites e, podem estar relacionadas com: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Falha no conhecimento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Falha na comunicação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Formação e treino insuficientes/inadequados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Falha na avaliação/rotura de </a:t>
            </a:r>
            <a:r>
              <a:rPr b="0" i="1" lang="pt-PT" sz="1600" spc="-1" strike="noStrike">
                <a:solidFill>
                  <a:srgbClr val="000000"/>
                </a:solidFill>
                <a:latin typeface="Open Sans"/>
              </a:rPr>
              <a:t>stock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 de materiais/produtos de higiene (ex: para as mãos)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odem ocorrer por um “</a:t>
            </a:r>
            <a:r>
              <a:rPr b="1" i="1" lang="pt-PT" sz="1800" spc="-1" strike="noStrike">
                <a:solidFill>
                  <a:srgbClr val="000000"/>
                </a:solidFill>
                <a:latin typeface="Open Sans"/>
              </a:rPr>
              <a:t>ato deliberado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”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u que não deveria ser cometido e, podem estar relacionadas com: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-  Falta de aceitação das regras de boa prática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Falta de consideração pelos outros - …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é uma questão muito mais complexa e que requer um reforço na gestão das situações…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Análise do Risco de infeção - Falhas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47400" y="2123640"/>
            <a:ext cx="728676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correm quando não foi compreendida a verdadeira razão do problema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São adotadas soluções incorretas, para problemas reai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Muitas vezes relacionadas com falha de comunicação ou interpretação errada da informação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Colocar no terreno um plano de redução de risco, baseado apenas nas evidências -  em vez de baseado, nos problemas reais identificado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581120" y="1143000"/>
            <a:ext cx="7096320" cy="4610160"/>
          </a:xfrm>
          <a:prstGeom prst="rect">
            <a:avLst/>
          </a:prstGeom>
          <a:ln w="0">
            <a:noFill/>
          </a:ln>
        </p:spPr>
      </p:pic>
      <p:sp>
        <p:nvSpPr>
          <p:cNvPr id="145" name="Rectângulo 2"/>
          <p:cNvSpPr/>
          <p:nvPr/>
        </p:nvSpPr>
        <p:spPr>
          <a:xfrm>
            <a:off x="2057400" y="1209600"/>
            <a:ext cx="203832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300" spc="-1" strike="noStrike">
                <a:solidFill>
                  <a:srgbClr val="000000"/>
                </a:solidFill>
                <a:latin typeface="Open Sans"/>
              </a:rPr>
              <a:t>Perigo:  Infeçã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ângulo 3"/>
          <p:cNvSpPr/>
          <p:nvPr/>
        </p:nvSpPr>
        <p:spPr>
          <a:xfrm>
            <a:off x="5981760" y="1247760"/>
            <a:ext cx="2352600" cy="44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300" spc="-1" strike="noStrike">
                <a:solidFill>
                  <a:srgbClr val="000000"/>
                </a:solidFill>
                <a:latin typeface="Open Sans"/>
              </a:rPr>
              <a:t>Falha ou ausência de defesas, a diversos níve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ângulo 4"/>
          <p:cNvSpPr/>
          <p:nvPr/>
        </p:nvSpPr>
        <p:spPr>
          <a:xfrm>
            <a:off x="6267600" y="4952880"/>
            <a:ext cx="233352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300" spc="-1" strike="noStrike">
                <a:solidFill>
                  <a:srgbClr val="000000"/>
                </a:solidFill>
                <a:latin typeface="Open Sans"/>
              </a:rPr>
              <a:t>Erro ou omissão no cumprimento das norm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ângulo 5"/>
          <p:cNvSpPr/>
          <p:nvPr/>
        </p:nvSpPr>
        <p:spPr>
          <a:xfrm>
            <a:off x="1552680" y="5029200"/>
            <a:ext cx="2361960" cy="62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300" spc="-1" strike="noStrike">
                <a:solidFill>
                  <a:srgbClr val="000000"/>
                </a:solidFill>
                <a:latin typeface="Open Sans"/>
              </a:rPr>
              <a:t>Falhas ativas (pessoas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300" spc="-1" strike="noStrike">
                <a:solidFill>
                  <a:srgbClr val="000000"/>
                </a:solidFill>
                <a:latin typeface="Open Sans"/>
              </a:rPr>
              <a:t>e condições existentes (sistem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ângulo arredondado 6"/>
          <p:cNvSpPr/>
          <p:nvPr/>
        </p:nvSpPr>
        <p:spPr>
          <a:xfrm>
            <a:off x="1562040" y="2133720"/>
            <a:ext cx="1657440" cy="75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</a:rPr>
              <a:t>Cultura organizac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</a:rPr>
              <a:t>não privilegia o 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ângulo arredondado 7"/>
          <p:cNvSpPr/>
          <p:nvPr/>
        </p:nvSpPr>
        <p:spPr>
          <a:xfrm>
            <a:off x="1866960" y="3648240"/>
            <a:ext cx="270504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</a:rPr>
              <a:t>Formação/treino insuficiente, dirigido para as situações pr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ângulo arredondado 8"/>
          <p:cNvSpPr/>
          <p:nvPr/>
        </p:nvSpPr>
        <p:spPr>
          <a:xfrm>
            <a:off x="4305240" y="4705200"/>
            <a:ext cx="147636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Open Sans"/>
              </a:rPr>
              <a:t>Falha na motivaçã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ângulo arredondado 9"/>
          <p:cNvSpPr/>
          <p:nvPr/>
        </p:nvSpPr>
        <p:spPr>
          <a:xfrm>
            <a:off x="4905360" y="1866960"/>
            <a:ext cx="152388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Organiz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ângulo arredondado 10"/>
          <p:cNvSpPr/>
          <p:nvPr/>
        </p:nvSpPr>
        <p:spPr>
          <a:xfrm>
            <a:off x="5667480" y="2238480"/>
            <a:ext cx="152388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ângulo arredondado 11"/>
          <p:cNvSpPr/>
          <p:nvPr/>
        </p:nvSpPr>
        <p:spPr>
          <a:xfrm>
            <a:off x="6391440" y="2924280"/>
            <a:ext cx="1333440" cy="21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Da Equi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ângulo arredondado 12"/>
          <p:cNvSpPr/>
          <p:nvPr/>
        </p:nvSpPr>
        <p:spPr>
          <a:xfrm>
            <a:off x="7115040" y="3591000"/>
            <a:ext cx="1447920" cy="19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ângulo arredondado 13"/>
          <p:cNvSpPr/>
          <p:nvPr/>
        </p:nvSpPr>
        <p:spPr>
          <a:xfrm>
            <a:off x="2647800" y="4133880"/>
            <a:ext cx="241956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</a:rPr>
              <a:t>Falha na liderança e de equipas que valorizem o 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ângulo 14"/>
          <p:cNvSpPr/>
          <p:nvPr/>
        </p:nvSpPr>
        <p:spPr>
          <a:xfrm>
            <a:off x="1476360" y="239760"/>
            <a:ext cx="718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Causas: ‘</a:t>
            </a: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Modelo queijo suíço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” dos eventos adversos associados à prevenção e controlo da infe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ângulo arredondado 15"/>
          <p:cNvSpPr/>
          <p:nvPr/>
        </p:nvSpPr>
        <p:spPr>
          <a:xfrm>
            <a:off x="1504800" y="3181320"/>
            <a:ext cx="246708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</a:rPr>
              <a:t>Falha nos circuitos e processos de prevenção da infe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ângulo 16"/>
          <p:cNvSpPr/>
          <p:nvPr/>
        </p:nvSpPr>
        <p:spPr>
          <a:xfrm>
            <a:off x="371520" y="6076800"/>
            <a:ext cx="846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Fonte: Storr J, Wigglesworth N &amp; Kilpatrick C. Integrating human factors with infecton Prevention and control. The Health Foundation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16:07:29Z</dcterms:created>
  <dc:creator>Alexandra Figueiredo</dc:creator>
  <dc:description/>
  <dc:language>en-US</dc:language>
  <cp:lastModifiedBy>Goreti</cp:lastModifiedBy>
  <dcterms:modified xsi:type="dcterms:W3CDTF">2015-05-03T16:02:25Z</dcterms:modified>
  <cp:revision>257</cp:revision>
  <dc:subject/>
  <dc:title>Diapositivo 1</dc:title>
</cp:coreProperties>
</file>